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4C44-091F-4553-8C15-392D4CC18E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10C3-DF00-454C-8ADF-1A97E7F7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D8D-9019-48F6-A74F-5778B60F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35C-D132-40D3-92B4-E1A60BB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480-DB94-4463-AA94-2B9F9612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29F-22DB-486E-B3D1-DF09E255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3A8-EF82-4A92-A15A-4371C224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ABE-207C-4AD7-AC0D-DA0E0D54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7CC-869D-4B33-9A0A-8CAC231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E4C-9604-4008-B47A-30642DA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54E-2CBF-4D98-A5B0-96BACD3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22A-5FAB-4106-993A-D97B0E03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E96-486E-4F8E-8AD5-C5AC3A83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4A2-EBDE-41B7-9AD3-AB4AA73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DCD4-3690-4D9D-AAF1-9FFA867B8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90360" y="1724040"/>
            <a:ext cx="8945640" cy="1200240"/>
            <a:chOff x="90360" y="1724040"/>
            <a:chExt cx="8945640" cy="1200240"/>
          </a:xfrm>
        </p:grpSpPr>
        <p:sp>
          <p:nvSpPr>
            <p:cNvPr id="121" name="Oval 5"/>
            <p:cNvSpPr/>
            <p:nvPr/>
          </p:nvSpPr>
          <p:spPr>
            <a:xfrm>
              <a:off x="90360" y="1756080"/>
              <a:ext cx="1168560" cy="11682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126036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4068720" y="233208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8"/>
            <p:cNvGrpSpPr/>
            <p:nvPr/>
          </p:nvGrpSpPr>
          <p:grpSpPr>
            <a:xfrm>
              <a:off x="1908000" y="1756080"/>
              <a:ext cx="2089080" cy="1168200"/>
              <a:chOff x="1908000" y="1756080"/>
              <a:chExt cx="2089080" cy="1168200"/>
            </a:xfrm>
          </p:grpSpPr>
          <p:sp>
            <p:nvSpPr>
              <p:cNvPr id="125" name="Oval 9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0"/>
              <p:cNvSpPr/>
              <p:nvPr/>
            </p:nvSpPr>
            <p:spPr>
              <a:xfrm>
                <a:off x="2828880" y="17560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1"/>
              <p:cNvSpPr/>
              <p:nvPr/>
            </p:nvSpPr>
            <p:spPr>
              <a:xfrm>
                <a:off x="1908000" y="1756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12"/>
            <p:cNvSpPr/>
            <p:nvPr/>
          </p:nvSpPr>
          <p:spPr>
            <a:xfrm>
              <a:off x="7237440" y="1756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7867800" y="1739880"/>
              <a:ext cx="1168200" cy="116856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4"/>
            <p:cNvGrpSpPr/>
            <p:nvPr/>
          </p:nvGrpSpPr>
          <p:grpSpPr>
            <a:xfrm>
              <a:off x="5148360" y="1724040"/>
              <a:ext cx="2136600" cy="1184040"/>
              <a:chOff x="5148360" y="1724040"/>
              <a:chExt cx="2136600" cy="1184040"/>
            </a:xfrm>
          </p:grpSpPr>
          <p:sp>
            <p:nvSpPr>
              <p:cNvPr id="131" name="Oval 15"/>
              <p:cNvSpPr/>
              <p:nvPr/>
            </p:nvSpPr>
            <p:spPr>
              <a:xfrm>
                <a:off x="51483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"/>
              <p:cNvSpPr/>
              <p:nvPr/>
            </p:nvSpPr>
            <p:spPr>
              <a:xfrm>
                <a:off x="6116760" y="1739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7"/>
              <p:cNvSpPr/>
              <p:nvPr/>
            </p:nvSpPr>
            <p:spPr>
              <a:xfrm>
                <a:off x="5164200" y="172404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18"/>
          <p:cNvSpPr/>
          <p:nvPr/>
        </p:nvSpPr>
        <p:spPr>
          <a:xfrm>
            <a:off x="250920" y="364500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an element displaces another element in a compound, producing a new compound and a new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0" y="2060640"/>
            <a:ext cx="9143640" cy="3444480"/>
            <a:chOff x="0" y="2060640"/>
            <a:chExt cx="9143640" cy="3444480"/>
          </a:xfrm>
        </p:grpSpPr>
        <p:pic>
          <p:nvPicPr>
            <p:cNvPr id="137" name="Picture 19" descr="1"/>
            <p:cNvPicPr/>
            <p:nvPr/>
          </p:nvPicPr>
          <p:blipFill>
            <a:blip r:embed="rId1"/>
            <a:stretch/>
          </p:blipFill>
          <p:spPr>
            <a:xfrm>
              <a:off x="0" y="2060640"/>
              <a:ext cx="4551480" cy="341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1" descr="2"/>
            <p:cNvPicPr/>
            <p:nvPr/>
          </p:nvPicPr>
          <p:blipFill>
            <a:blip r:embed="rId2"/>
            <a:stretch/>
          </p:blipFill>
          <p:spPr>
            <a:xfrm>
              <a:off x="4551480" y="2060640"/>
              <a:ext cx="4592160" cy="34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26"/>
          <p:cNvSpPr/>
          <p:nvPr/>
        </p:nvSpPr>
        <p:spPr>
          <a:xfrm>
            <a:off x="611280" y="1125360"/>
            <a:ext cx="849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495800" y="981000"/>
            <a:ext cx="641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42139941BkcDHm_ph"/>
          <p:cNvPicPr/>
          <p:nvPr/>
        </p:nvPicPr>
        <p:blipFill>
          <a:blip r:embed="rId1"/>
          <a:stretch/>
        </p:blipFill>
        <p:spPr>
          <a:xfrm>
            <a:off x="2843280" y="1844640"/>
            <a:ext cx="3519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80560" y="1052640"/>
            <a:ext cx="769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122560" y="198900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332000" y="4508640"/>
            <a:ext cx="640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second reaction does not occur. How will you know if a single displacement reaction will occur or not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2781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CA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H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192760" y="378936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bout this reac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0" y="1413000"/>
            <a:ext cx="33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activity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also on page 193, Table 5.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 Hot and Who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 Not Analogy</a:t>
            </a:r>
            <a:r>
              <a:rPr b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3471840" y="692280"/>
            <a:ext cx="5637240" cy="6165720"/>
            <a:chOff x="3471840" y="692280"/>
            <a:chExt cx="5637240" cy="6165720"/>
          </a:xfrm>
        </p:grpSpPr>
        <p:pic>
          <p:nvPicPr>
            <p:cNvPr id="151" name="Picture 6" descr="tool0403"/>
            <p:cNvPicPr/>
            <p:nvPr/>
          </p:nvPicPr>
          <p:blipFill>
            <a:blip r:embed="rId1"/>
            <a:stretch/>
          </p:blipFill>
          <p:spPr>
            <a:xfrm>
              <a:off x="3471840" y="1052640"/>
              <a:ext cx="5637240" cy="58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8"/>
            <p:cNvSpPr/>
            <p:nvPr/>
          </p:nvSpPr>
          <p:spPr>
            <a:xfrm>
              <a:off x="3492360" y="692280"/>
              <a:ext cx="1008360" cy="6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8"/>
          <p:cNvGrpSpPr/>
          <p:nvPr/>
        </p:nvGrpSpPr>
        <p:grpSpPr>
          <a:xfrm>
            <a:off x="5867280" y="765000"/>
            <a:ext cx="5569200" cy="6092640"/>
            <a:chOff x="5867280" y="765000"/>
            <a:chExt cx="5569200" cy="6092640"/>
          </a:xfrm>
        </p:grpSpPr>
        <p:pic>
          <p:nvPicPr>
            <p:cNvPr id="155" name="Picture 9" descr="tool0403"/>
            <p:cNvPicPr/>
            <p:nvPr/>
          </p:nvPicPr>
          <p:blipFill>
            <a:blip r:embed="rId1"/>
            <a:stretch/>
          </p:blipFill>
          <p:spPr>
            <a:xfrm>
              <a:off x="5867280" y="1121040"/>
              <a:ext cx="5569200" cy="57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0"/>
            <p:cNvSpPr/>
            <p:nvPr/>
          </p:nvSpPr>
          <p:spPr>
            <a:xfrm>
              <a:off x="5887440" y="765000"/>
              <a:ext cx="99612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127960" y="1052640"/>
            <a:ext cx="344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Z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82600" y="220176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867280" y="2924280"/>
            <a:ext cx="17290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867280" y="3645000"/>
            <a:ext cx="17290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973080" y="35002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ction will not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8"/>
          <p:cNvGrpSpPr/>
          <p:nvPr/>
        </p:nvGrpSpPr>
        <p:grpSpPr>
          <a:xfrm>
            <a:off x="-361800" y="1557360"/>
            <a:ext cx="9505800" cy="5838480"/>
            <a:chOff x="-361800" y="1557360"/>
            <a:chExt cx="9505800" cy="5838480"/>
          </a:xfrm>
        </p:grpSpPr>
        <p:grpSp>
          <p:nvGrpSpPr>
            <p:cNvPr id="164" name="Group 15"/>
            <p:cNvGrpSpPr/>
            <p:nvPr/>
          </p:nvGrpSpPr>
          <p:grpSpPr>
            <a:xfrm>
              <a:off x="-361800" y="1557360"/>
              <a:ext cx="9505800" cy="5838480"/>
              <a:chOff x="-361800" y="1557360"/>
              <a:chExt cx="9505800" cy="5838480"/>
            </a:xfrm>
          </p:grpSpPr>
          <p:pic>
            <p:nvPicPr>
              <p:cNvPr id="165" name="Picture 13" descr="38_modern_periodic_table"/>
              <p:cNvPicPr/>
              <p:nvPr/>
            </p:nvPicPr>
            <p:blipFill>
              <a:blip r:embed="rId1"/>
              <a:stretch/>
            </p:blipFill>
            <p:spPr>
              <a:xfrm>
                <a:off x="-96120" y="2026440"/>
                <a:ext cx="9240120" cy="51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Rectangle 14"/>
              <p:cNvSpPr/>
              <p:nvPr/>
            </p:nvSpPr>
            <p:spPr>
              <a:xfrm>
                <a:off x="-361800" y="1557360"/>
                <a:ext cx="7744680" cy="583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AutoShape 16"/>
            <p:cNvSpPr/>
            <p:nvPr/>
          </p:nvSpPr>
          <p:spPr>
            <a:xfrm>
              <a:off x="6443640" y="3141720"/>
              <a:ext cx="936720" cy="2448000"/>
            </a:xfrm>
            <a:prstGeom prst="upArrow">
              <a:avLst>
                <a:gd name="adj1" fmla="val 50000"/>
                <a:gd name="adj2" fmla="val 65334"/>
              </a:avLst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 rot="16200000">
              <a:off x="5836680" y="42534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IV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96720" y="1628640"/>
            <a:ext cx="3844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a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898560" y="27082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826920" y="33577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ction will not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319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Involving haloge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7885080" y="4581360"/>
            <a:ext cx="574560" cy="503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7885080" y="4076640"/>
            <a:ext cx="574560" cy="503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826920" y="4365720"/>
            <a:ext cx="5329440" cy="2303280"/>
          </a:xfrm>
          <a:prstGeom prst="wedgeRoundRectCallout">
            <a:avLst>
              <a:gd name="adj1" fmla="val 85240"/>
              <a:gd name="adj2" fmla="val -25671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The position of halogens in the periodic table tells you how reactive 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61800" y="1557360"/>
            <a:ext cx="9505800" cy="5838480"/>
            <a:chOff x="-361800" y="1557360"/>
            <a:chExt cx="9505800" cy="5838480"/>
          </a:xfrm>
        </p:grpSpPr>
        <p:grpSp>
          <p:nvGrpSpPr>
            <p:cNvPr id="178" name="Group 3"/>
            <p:cNvGrpSpPr/>
            <p:nvPr/>
          </p:nvGrpSpPr>
          <p:grpSpPr>
            <a:xfrm>
              <a:off x="-361800" y="1557360"/>
              <a:ext cx="9505800" cy="5838480"/>
              <a:chOff x="-361800" y="1557360"/>
              <a:chExt cx="9505800" cy="5838480"/>
            </a:xfrm>
          </p:grpSpPr>
          <p:pic>
            <p:nvPicPr>
              <p:cNvPr id="179" name="Picture 4" descr="38_modern_periodic_table"/>
              <p:cNvPicPr/>
              <p:nvPr/>
            </p:nvPicPr>
            <p:blipFill>
              <a:blip r:embed="rId1"/>
              <a:stretch/>
            </p:blipFill>
            <p:spPr>
              <a:xfrm>
                <a:off x="-96120" y="2026440"/>
                <a:ext cx="9240120" cy="51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Rectangle 5"/>
              <p:cNvSpPr/>
              <p:nvPr/>
            </p:nvSpPr>
            <p:spPr>
              <a:xfrm>
                <a:off x="-361800" y="1557360"/>
                <a:ext cx="7744680" cy="583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AutoShape 6"/>
            <p:cNvSpPr/>
            <p:nvPr/>
          </p:nvSpPr>
          <p:spPr>
            <a:xfrm>
              <a:off x="6443640" y="3141720"/>
              <a:ext cx="936720" cy="2448000"/>
            </a:xfrm>
            <a:prstGeom prst="upArrow">
              <a:avLst>
                <a:gd name="adj1" fmla="val 50000"/>
                <a:gd name="adj2" fmla="val 65334"/>
              </a:avLst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 rot="16200000">
              <a:off x="5836680" y="42534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IV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-24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24000" y="1628640"/>
            <a:ext cx="413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K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898560" y="270828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Will this reaction occu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24000" y="3645000"/>
            <a:ext cx="712944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ac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K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8319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Involving haloge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7885080" y="3573360"/>
            <a:ext cx="574560" cy="503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7885080" y="4076640"/>
            <a:ext cx="574560" cy="5032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00000" y="4869000"/>
            <a:ext cx="73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 + BC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C + B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6"/>
          <p:cNvGrpSpPr/>
          <p:nvPr/>
        </p:nvGrpSpPr>
        <p:grpSpPr>
          <a:xfrm>
            <a:off x="0" y="2781360"/>
            <a:ext cx="9143640" cy="1028520"/>
            <a:chOff x="0" y="2781360"/>
            <a:chExt cx="9143640" cy="1028520"/>
          </a:xfrm>
        </p:grpSpPr>
        <p:sp>
          <p:nvSpPr>
            <p:cNvPr id="193" name="Text Box 6"/>
            <p:cNvSpPr/>
            <p:nvPr/>
          </p:nvSpPr>
          <p:spPr>
            <a:xfrm>
              <a:off x="176508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"/>
            <p:cNvSpPr/>
            <p:nvPr/>
          </p:nvSpPr>
          <p:spPr>
            <a:xfrm>
              <a:off x="4140360" y="3294000"/>
              <a:ext cx="8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2313000" y="2808360"/>
              <a:ext cx="1766520" cy="985680"/>
              <a:chOff x="2313000" y="2808360"/>
              <a:chExt cx="1766520" cy="985680"/>
            </a:xfrm>
          </p:grpSpPr>
          <p:sp>
            <p:nvSpPr>
              <p:cNvPr id="196" name="Oval 9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091680" y="2808360"/>
                <a:ext cx="987840" cy="98568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2313000" y="280836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6805440" y="285264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"/>
            <p:cNvGrpSpPr/>
            <p:nvPr/>
          </p:nvGrpSpPr>
          <p:grpSpPr>
            <a:xfrm>
              <a:off x="5052960" y="2781360"/>
              <a:ext cx="1804680" cy="999720"/>
              <a:chOff x="5052960" y="2781360"/>
              <a:chExt cx="1804680" cy="999720"/>
            </a:xfrm>
          </p:grpSpPr>
          <p:sp>
            <p:nvSpPr>
              <p:cNvPr id="201" name="Oval 15"/>
              <p:cNvSpPr/>
              <p:nvPr/>
            </p:nvSpPr>
            <p:spPr>
              <a:xfrm>
                <a:off x="505296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5870880" y="279468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5066280" y="278136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2"/>
            <p:cNvGrpSpPr/>
            <p:nvPr/>
          </p:nvGrpSpPr>
          <p:grpSpPr>
            <a:xfrm>
              <a:off x="0" y="2822400"/>
              <a:ext cx="1779120" cy="987480"/>
              <a:chOff x="0" y="2822400"/>
              <a:chExt cx="1779120" cy="98748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8"/>
              <p:cNvSpPr/>
              <p:nvPr/>
            </p:nvSpPr>
            <p:spPr>
              <a:xfrm>
                <a:off x="791640" y="2822400"/>
                <a:ext cx="987480" cy="9874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9"/>
              <p:cNvSpPr/>
              <p:nvPr/>
            </p:nvSpPr>
            <p:spPr>
              <a:xfrm>
                <a:off x="0" y="282240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4"/>
            <p:cNvGrpSpPr/>
            <p:nvPr/>
          </p:nvGrpSpPr>
          <p:grpSpPr>
            <a:xfrm>
              <a:off x="7365960" y="2808360"/>
              <a:ext cx="1777680" cy="985680"/>
              <a:chOff x="7365960" y="2808360"/>
              <a:chExt cx="1777680" cy="985680"/>
            </a:xfrm>
          </p:grpSpPr>
          <p:sp>
            <p:nvSpPr>
              <p:cNvPr id="209" name="Oval 13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1"/>
              <p:cNvSpPr/>
              <p:nvPr/>
            </p:nvSpPr>
            <p:spPr>
              <a:xfrm>
                <a:off x="81561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3"/>
              <p:cNvSpPr/>
              <p:nvPr/>
            </p:nvSpPr>
            <p:spPr>
              <a:xfrm>
                <a:off x="7365960" y="280836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8712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0" y="1824120"/>
            <a:ext cx="9143640" cy="1028520"/>
            <a:chOff x="0" y="1824120"/>
            <a:chExt cx="9143640" cy="1028520"/>
          </a:xfrm>
        </p:grpSpPr>
        <p:sp>
          <p:nvSpPr>
            <p:cNvPr id="214" name="Text Box 5"/>
            <p:cNvSpPr/>
            <p:nvPr/>
          </p:nvSpPr>
          <p:spPr>
            <a:xfrm>
              <a:off x="1765080" y="18954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4140360" y="2336760"/>
              <a:ext cx="8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2313000" y="1851120"/>
              <a:ext cx="1766520" cy="985680"/>
              <a:chOff x="2313000" y="1851120"/>
              <a:chExt cx="1766520" cy="985680"/>
            </a:xfrm>
          </p:grpSpPr>
          <p:sp>
            <p:nvSpPr>
              <p:cNvPr id="217" name="Oval 8"/>
              <p:cNvSpPr/>
              <p:nvPr/>
            </p:nvSpPr>
            <p:spPr>
              <a:xfrm>
                <a:off x="2313000" y="185112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3091680" y="1851120"/>
                <a:ext cx="987840" cy="98568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2313000" y="1851120"/>
                <a:ext cx="98820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1"/>
            <p:cNvSpPr/>
            <p:nvPr/>
          </p:nvSpPr>
          <p:spPr>
            <a:xfrm>
              <a:off x="6805440" y="1895400"/>
              <a:ext cx="58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2"/>
            <p:cNvGrpSpPr/>
            <p:nvPr/>
          </p:nvGrpSpPr>
          <p:grpSpPr>
            <a:xfrm>
              <a:off x="5052960" y="1824120"/>
              <a:ext cx="1804680" cy="999720"/>
              <a:chOff x="5052960" y="1824120"/>
              <a:chExt cx="1804680" cy="999720"/>
            </a:xfrm>
          </p:grpSpPr>
          <p:sp>
            <p:nvSpPr>
              <p:cNvPr id="222" name="Oval 13"/>
              <p:cNvSpPr/>
              <p:nvPr/>
            </p:nvSpPr>
            <p:spPr>
              <a:xfrm>
                <a:off x="5052960" y="183744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4"/>
              <p:cNvSpPr/>
              <p:nvPr/>
            </p:nvSpPr>
            <p:spPr>
              <a:xfrm>
                <a:off x="5870880" y="183744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5"/>
              <p:cNvSpPr/>
              <p:nvPr/>
            </p:nvSpPr>
            <p:spPr>
              <a:xfrm>
                <a:off x="5066280" y="1824120"/>
                <a:ext cx="986760" cy="9864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0" y="1865160"/>
              <a:ext cx="1779120" cy="987480"/>
              <a:chOff x="0" y="1865160"/>
              <a:chExt cx="1779120" cy="987480"/>
            </a:xfrm>
          </p:grpSpPr>
          <p:sp>
            <p:nvSpPr>
              <p:cNvPr id="226" name="Oval 17"/>
              <p:cNvSpPr/>
              <p:nvPr/>
            </p:nvSpPr>
            <p:spPr>
              <a:xfrm>
                <a:off x="0" y="186516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18"/>
              <p:cNvSpPr/>
              <p:nvPr/>
            </p:nvSpPr>
            <p:spPr>
              <a:xfrm>
                <a:off x="791640" y="1865160"/>
                <a:ext cx="987480" cy="9874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0" y="1865160"/>
                <a:ext cx="987840" cy="98748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0"/>
            <p:cNvGrpSpPr/>
            <p:nvPr/>
          </p:nvGrpSpPr>
          <p:grpSpPr>
            <a:xfrm>
              <a:off x="7365960" y="1851120"/>
              <a:ext cx="1777680" cy="985680"/>
              <a:chOff x="7365960" y="1851120"/>
              <a:chExt cx="1777680" cy="985680"/>
            </a:xfrm>
          </p:grpSpPr>
          <p:sp>
            <p:nvSpPr>
              <p:cNvPr id="230" name="Oval 21"/>
              <p:cNvSpPr/>
              <p:nvPr/>
            </p:nvSpPr>
            <p:spPr>
              <a:xfrm>
                <a:off x="7365960" y="185112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8156160" y="185112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b50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7365960" y="1851120"/>
                <a:ext cx="987480" cy="98568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24"/>
          <p:cNvSpPr/>
          <p:nvPr/>
        </p:nvSpPr>
        <p:spPr>
          <a:xfrm>
            <a:off x="250920" y="364500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elements in different compounds exchange places, producing two new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"/>
          <p:cNvSpPr/>
          <p:nvPr/>
        </p:nvSpPr>
        <p:spPr>
          <a:xfrm>
            <a:off x="539640" y="270828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2708280"/>
            <a:ext cx="143964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2360" y="285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457200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6084720" y="2709720"/>
            <a:ext cx="2592360" cy="1440000"/>
            <a:chOff x="6084720" y="2709720"/>
            <a:chExt cx="2592360" cy="1440000"/>
          </a:xfrm>
        </p:grpSpPr>
        <p:sp>
          <p:nvSpPr>
            <p:cNvPr id="55" name="Oval 8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23708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6084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3"/>
          <p:cNvSpPr/>
          <p:nvPr/>
        </p:nvSpPr>
        <p:spPr>
          <a:xfrm>
            <a:off x="1763640" y="515772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+ B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-10008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5" descr="TEACH_WIKI_Pb(NO3)2"/>
          <p:cNvPicPr/>
          <p:nvPr/>
        </p:nvPicPr>
        <p:blipFill>
          <a:blip r:embed="rId1"/>
          <a:stretch/>
        </p:blipFill>
        <p:spPr>
          <a:xfrm>
            <a:off x="3851280" y="2997360"/>
            <a:ext cx="4764240" cy="3573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7" descr="berts_double"/>
          <p:cNvPicPr/>
          <p:nvPr/>
        </p:nvPicPr>
        <p:blipFill>
          <a:blip r:embed="rId2"/>
          <a:stretch/>
        </p:blipFill>
        <p:spPr>
          <a:xfrm>
            <a:off x="438120" y="2133720"/>
            <a:ext cx="3413160" cy="4464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0"/>
          <p:cNvSpPr/>
          <p:nvPr/>
        </p:nvSpPr>
        <p:spPr>
          <a:xfrm>
            <a:off x="796320" y="1125360"/>
            <a:ext cx="749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1015411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17-water_bottle"/>
          <p:cNvPicPr/>
          <p:nvPr/>
        </p:nvPicPr>
        <p:blipFill>
          <a:blip r:embed="rId2"/>
          <a:stretch/>
        </p:blipFill>
        <p:spPr>
          <a:xfrm>
            <a:off x="4419720" y="3276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7"/>
          <p:cNvSpPr/>
          <p:nvPr/>
        </p:nvSpPr>
        <p:spPr>
          <a:xfrm>
            <a:off x="35812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324480" y="4495680"/>
            <a:ext cx="685800" cy="685800"/>
          </a:xfrm>
          <a:prstGeom prst="plus">
            <a:avLst>
              <a:gd name="adj" fmla="val 4131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Salt%2520Shaker"/>
          <p:cNvPicPr/>
          <p:nvPr/>
        </p:nvPicPr>
        <p:blipFill>
          <a:blip r:embed="rId3"/>
          <a:stretch/>
        </p:blipFill>
        <p:spPr>
          <a:xfrm>
            <a:off x="7143840" y="35053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0"/>
          <p:cNvSpPr/>
          <p:nvPr/>
        </p:nvSpPr>
        <p:spPr>
          <a:xfrm>
            <a:off x="-76320" y="5562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250920" y="-100080"/>
            <a:ext cx="856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5280" y="105264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utralization reaction: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 Special type of double displacement reaction</a:t>
            </a: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9162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H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O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br>
              <a:rPr sz="2800"/>
            </a:b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ydrochloric acid + sodium hydroxid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water + salt (sodium chlor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Antacid-L478"/>
          <p:cNvPicPr/>
          <p:nvPr/>
        </p:nvPicPr>
        <p:blipFill>
          <a:blip r:embed="rId1"/>
          <a:stretch/>
        </p:blipFill>
        <p:spPr>
          <a:xfrm>
            <a:off x="2268360" y="2060640"/>
            <a:ext cx="4619880" cy="3079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76500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Neutralization Reaction Example: Antacids neutralize stomach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2H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a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Ca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"/>
          <p:cNvSpPr/>
          <p:nvPr/>
        </p:nvSpPr>
        <p:spPr>
          <a:xfrm flipH="1">
            <a:off x="3123720" y="5715000"/>
            <a:ext cx="3886200" cy="304920"/>
          </a:xfrm>
          <a:prstGeom prst="line">
            <a:avLst/>
          </a:prstGeom>
          <a:ln w="57240">
            <a:solidFill>
              <a:srgbClr val="5d9d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0920" y="-100080"/>
            <a:ext cx="856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324000" y="2276640"/>
            <a:ext cx="143964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700360" y="227664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909440" y="234936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4356000" y="299736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5543640" y="1341360"/>
            <a:ext cx="3384360" cy="3240000"/>
          </a:xfrm>
          <a:prstGeom prst="irregularSeal2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55640" y="486900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eaction of a fuel with oxygen, producing energy in the form of heat and/or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6300720" y="213372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3"/>
          <p:cNvGrpSpPr/>
          <p:nvPr/>
        </p:nvGrpSpPr>
        <p:grpSpPr>
          <a:xfrm>
            <a:off x="0" y="2084400"/>
            <a:ext cx="9143640" cy="4657320"/>
            <a:chOff x="0" y="2084400"/>
            <a:chExt cx="9143640" cy="4657320"/>
          </a:xfrm>
        </p:grpSpPr>
        <p:pic>
          <p:nvPicPr>
            <p:cNvPr id="262" name="Picture 10" descr="11"/>
            <p:cNvPicPr/>
            <p:nvPr/>
          </p:nvPicPr>
          <p:blipFill>
            <a:blip r:embed="rId1"/>
            <a:stretch/>
          </p:blipFill>
          <p:spPr>
            <a:xfrm>
              <a:off x="0" y="2084400"/>
              <a:ext cx="6016320" cy="46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2" descr="WUI_Picnic_Rock_Fire_BLM"/>
            <p:cNvPicPr/>
            <p:nvPr/>
          </p:nvPicPr>
          <p:blipFill>
            <a:blip r:embed="rId2"/>
            <a:stretch/>
          </p:blipFill>
          <p:spPr>
            <a:xfrm>
              <a:off x="2937240" y="2084400"/>
              <a:ext cx="6206400" cy="465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29"/>
          <p:cNvGrpSpPr/>
          <p:nvPr/>
        </p:nvGrpSpPr>
        <p:grpSpPr>
          <a:xfrm>
            <a:off x="2124000" y="357480"/>
            <a:ext cx="5254200" cy="2088720"/>
            <a:chOff x="2124000" y="357480"/>
            <a:chExt cx="5254200" cy="2088720"/>
          </a:xfrm>
        </p:grpSpPr>
        <p:sp>
          <p:nvSpPr>
            <p:cNvPr id="265" name="Oval 21"/>
            <p:cNvSpPr/>
            <p:nvPr/>
          </p:nvSpPr>
          <p:spPr>
            <a:xfrm>
              <a:off x="2124000" y="1036800"/>
              <a:ext cx="861840" cy="860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ue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3546360" y="1036800"/>
              <a:ext cx="860400" cy="860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3085200" y="11541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4537080" y="1467000"/>
              <a:ext cx="774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25"/>
            <p:cNvSpPr/>
            <p:nvPr/>
          </p:nvSpPr>
          <p:spPr>
            <a:xfrm rot="1993800">
              <a:off x="5364000" y="743040"/>
              <a:ext cx="1800360" cy="1317600"/>
            </a:xfrm>
            <a:prstGeom prst="irregularSeal2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6"/>
            <p:cNvSpPr/>
            <p:nvPr/>
          </p:nvSpPr>
          <p:spPr>
            <a:xfrm>
              <a:off x="5700600" y="951120"/>
              <a:ext cx="860400" cy="861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2"/>
          <p:cNvSpPr/>
          <p:nvPr/>
        </p:nvSpPr>
        <p:spPr>
          <a:xfrm rot="1993800">
            <a:off x="6948360" y="836640"/>
            <a:ext cx="1800360" cy="13176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900000" y="692280"/>
            <a:ext cx="748836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+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energ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8"/>
          <p:cNvSpPr/>
          <p:nvPr/>
        </p:nvSpPr>
        <p:spPr>
          <a:xfrm>
            <a:off x="6300720" y="2133720"/>
            <a:ext cx="144000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4"/>
          <p:cNvGrpSpPr/>
          <p:nvPr/>
        </p:nvGrpSpPr>
        <p:grpSpPr>
          <a:xfrm>
            <a:off x="-252360" y="2198520"/>
            <a:ext cx="5545080" cy="4611960"/>
            <a:chOff x="-252360" y="2198520"/>
            <a:chExt cx="5545080" cy="4611960"/>
          </a:xfrm>
        </p:grpSpPr>
        <p:pic>
          <p:nvPicPr>
            <p:cNvPr id="276" name="Picture 20" descr="mg_2"/>
            <p:cNvPicPr/>
            <p:nvPr/>
          </p:nvPicPr>
          <p:blipFill>
            <a:blip r:embed="rId1"/>
            <a:stretch/>
          </p:blipFill>
          <p:spPr>
            <a:xfrm>
              <a:off x="-252360" y="2657520"/>
              <a:ext cx="554508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25"/>
            <p:cNvSpPr/>
            <p:nvPr/>
          </p:nvSpPr>
          <p:spPr>
            <a:xfrm>
              <a:off x="237960" y="2198520"/>
              <a:ext cx="364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Mg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(s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(g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2Mg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(s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35"/>
          <p:cNvGrpSpPr/>
          <p:nvPr/>
        </p:nvGrpSpPr>
        <p:grpSpPr>
          <a:xfrm>
            <a:off x="4356000" y="2205000"/>
            <a:ext cx="4788000" cy="4608720"/>
            <a:chOff x="4356000" y="2205000"/>
            <a:chExt cx="4788000" cy="4608720"/>
          </a:xfrm>
        </p:grpSpPr>
        <p:pic>
          <p:nvPicPr>
            <p:cNvPr id="279" name="Picture 24" descr="130717014_b5e2222f6c"/>
            <p:cNvPicPr/>
            <p:nvPr/>
          </p:nvPicPr>
          <p:blipFill>
            <a:blip r:embed="rId2"/>
            <a:stretch/>
          </p:blipFill>
          <p:spPr>
            <a:xfrm>
              <a:off x="4356000" y="2657520"/>
              <a:ext cx="4788000" cy="41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26"/>
            <p:cNvSpPr/>
            <p:nvPr/>
          </p:nvSpPr>
          <p:spPr>
            <a:xfrm>
              <a:off x="5139720" y="2205000"/>
              <a:ext cx="3463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(s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5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(g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0(g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174240" y="2637000"/>
            <a:ext cx="86256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ype: COMPLETE COMB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carbon + oxy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bon dioxide + water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539640" y="1197000"/>
            <a:ext cx="81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hen burning a fuel, there are two types of combustion to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-27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46600" y="981000"/>
            <a:ext cx="866484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ype: INCOMPLETE COMBU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carbon + oxygen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arbon dioxide + water + carbon monoxide + carbon +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3059280" y="2062080"/>
            <a:ext cx="3816360" cy="1150920"/>
            <a:chOff x="3059280" y="2062080"/>
            <a:chExt cx="3816360" cy="1150920"/>
          </a:xfrm>
        </p:grpSpPr>
        <p:sp>
          <p:nvSpPr>
            <p:cNvPr id="287" name="Oval 4"/>
            <p:cNvSpPr/>
            <p:nvPr/>
          </p:nvSpPr>
          <p:spPr>
            <a:xfrm>
              <a:off x="5939280" y="2062080"/>
              <a:ext cx="936360" cy="79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"/>
            <p:cNvSpPr/>
            <p:nvPr/>
          </p:nvSpPr>
          <p:spPr>
            <a:xfrm>
              <a:off x="3059280" y="2710080"/>
              <a:ext cx="2952720" cy="502920"/>
            </a:xfrm>
            <a:prstGeom prst="wedgeRoundRectCallout">
              <a:avLst>
                <a:gd name="adj1" fmla="val 55324"/>
                <a:gd name="adj2" fmla="val -4243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ISONOUS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0"/>
          <p:cNvGrpSpPr/>
          <p:nvPr/>
        </p:nvGrpSpPr>
        <p:grpSpPr>
          <a:xfrm>
            <a:off x="5148360" y="2062080"/>
            <a:ext cx="2519280" cy="1727280"/>
            <a:chOff x="5148360" y="2062080"/>
            <a:chExt cx="2519280" cy="1727280"/>
          </a:xfrm>
        </p:grpSpPr>
        <p:sp>
          <p:nvSpPr>
            <p:cNvPr id="290" name="Oval 8"/>
            <p:cNvSpPr/>
            <p:nvPr/>
          </p:nvSpPr>
          <p:spPr>
            <a:xfrm>
              <a:off x="7020000" y="2062080"/>
              <a:ext cx="647640" cy="792360"/>
            </a:xfrm>
            <a:prstGeom prst="ellipse">
              <a:avLst/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5148360" y="3286080"/>
              <a:ext cx="2160360" cy="503280"/>
            </a:xfrm>
            <a:prstGeom prst="wedgeRoundRectCallout">
              <a:avLst>
                <a:gd name="adj1" fmla="val 51986"/>
                <a:gd name="adj2" fmla="val -141166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BLACK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2" descr="200718P2"/>
          <p:cNvPicPr/>
          <p:nvPr/>
        </p:nvPicPr>
        <p:blipFill>
          <a:blip r:embed="rId1"/>
          <a:stretch/>
        </p:blipFill>
        <p:spPr>
          <a:xfrm>
            <a:off x="0" y="3517920"/>
            <a:ext cx="5003640" cy="3340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hydrocarbonemissions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930400" y="1700280"/>
            <a:ext cx="3106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 + 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1480" y="2781360"/>
            <a:ext cx="806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Are the reactants in their pure elemental form (i.e.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g, 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1320" y="335772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YNTHESIS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468360" y="4437000"/>
            <a:ext cx="76327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K + 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K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only be ONE product, and it should contain both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275280" y="1700280"/>
            <a:ext cx="241056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19680" y="278136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Is there only ONE reac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88080" y="3357720"/>
            <a:ext cx="72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COMPOSI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95280" y="364500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be two products, each being a separate element (i.e. Na, Ca,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B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though that is not always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2278800" y="4869000"/>
            <a:ext cx="45259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466560" y="177156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2770200" y="177156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979640" y="191628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498920" y="2492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6012000" y="1773360"/>
            <a:ext cx="2592360" cy="1439640"/>
            <a:chOff x="6012000" y="1773360"/>
            <a:chExt cx="2592360" cy="1439640"/>
          </a:xfrm>
        </p:grpSpPr>
        <p:sp>
          <p:nvSpPr>
            <p:cNvPr id="65" name="Oval 8"/>
            <p:cNvSpPr/>
            <p:nvPr/>
          </p:nvSpPr>
          <p:spPr>
            <a:xfrm>
              <a:off x="6012000" y="177336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7164360" y="177336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6012000" y="177336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3"/>
          <p:cNvSpPr/>
          <p:nvPr/>
        </p:nvSpPr>
        <p:spPr>
          <a:xfrm>
            <a:off x="1476360" y="386064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two reactants combine to make a larger, more complex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184560" y="1700280"/>
            <a:ext cx="25909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19680" y="2781360"/>
            <a:ext cx="38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Is there only ONE reac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88080" y="3357720"/>
            <a:ext cx="722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ECOMPOSI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95280" y="364500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re should be two products, each being a separate element (i.e. Na, Ca,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B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although that is not always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1970640" y="4869000"/>
            <a:ext cx="5140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 + 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95800" y="1700280"/>
            <a:ext cx="416628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312480" y="2781360"/>
            <a:ext cx="81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If there are 2 reactants, is one of them a pure metal on its 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90240" y="3357720"/>
            <a:ext cx="80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ING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metal that is on its own must take the place of the other metal that is in the larger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279800" y="4797360"/>
            <a:ext cx="65988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n + Sn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nCl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S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946160" y="1700280"/>
            <a:ext cx="50670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19320" y="2781360"/>
            <a:ext cx="51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Are both of the reactants comp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389880" y="3357720"/>
            <a:ext cx="82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OUBLE DISPLACEMENT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395280" y="364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two metals must switch places with one another, forming two new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44160" y="4724280"/>
            <a:ext cx="84002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Cl + AgN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aN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+ Ag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560" y="1404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ng the Products for a Chemical Re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482560" y="1700280"/>
            <a:ext cx="3991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18960" y="2781360"/>
            <a:ext cx="48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Is one of the reactants oxygen g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95280" y="33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es, then this reaction is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OMBUSTION REACTION (as well as a SYNTHESIS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68360" y="443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395280" y="4022640"/>
            <a:ext cx="799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the products must be an oxide and energy. If one of the reactants is a hydrocarbon, then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 are th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63720" y="5040360"/>
            <a:ext cx="90068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25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 18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 +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311120" y="1287360"/>
            <a:ext cx="6500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1"/>
          <p:cNvPicPr/>
          <p:nvPr/>
        </p:nvPicPr>
        <p:blipFill>
          <a:blip r:embed="rId1"/>
          <a:stretch/>
        </p:blipFill>
        <p:spPr>
          <a:xfrm>
            <a:off x="1411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2"/>
          <p:cNvPicPr/>
          <p:nvPr/>
        </p:nvPicPr>
        <p:blipFill>
          <a:blip r:embed="rId2"/>
          <a:stretch/>
        </p:blipFill>
        <p:spPr>
          <a:xfrm>
            <a:off x="3112920" y="2637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3"/>
          <p:cNvPicPr/>
          <p:nvPr/>
        </p:nvPicPr>
        <p:blipFill>
          <a:blip r:embed="rId3"/>
          <a:stretch/>
        </p:blipFill>
        <p:spPr>
          <a:xfrm>
            <a:off x="6066000" y="263700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076720" y="2708280"/>
            <a:ext cx="1440000" cy="144000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7380360" y="2708280"/>
            <a:ext cx="1439640" cy="144000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589440" y="28526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41964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468360" y="2709720"/>
            <a:ext cx="2592360" cy="1440000"/>
            <a:chOff x="468360" y="2709720"/>
            <a:chExt cx="2592360" cy="1440000"/>
          </a:xfrm>
        </p:grpSpPr>
        <p:sp>
          <p:nvSpPr>
            <p:cNvPr id="80" name="Oval 8"/>
            <p:cNvSpPr/>
            <p:nvPr/>
          </p:nvSpPr>
          <p:spPr>
            <a:xfrm>
              <a:off x="46836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9"/>
            <p:cNvSpPr/>
            <p:nvPr/>
          </p:nvSpPr>
          <p:spPr>
            <a:xfrm>
              <a:off x="162072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468360" y="270972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1"/>
          <p:cNvSpPr/>
          <p:nvPr/>
        </p:nvSpPr>
        <p:spPr>
          <a:xfrm>
            <a:off x="1763640" y="515772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 +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1"/>
          <p:cNvSpPr/>
          <p:nvPr/>
        </p:nvSpPr>
        <p:spPr>
          <a:xfrm>
            <a:off x="1403280" y="357336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action where a more complex molecule breaks down to form two or more simpler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5076720" y="1482840"/>
            <a:ext cx="1440000" cy="1439640"/>
          </a:xfrm>
          <a:prstGeom prst="ellipse">
            <a:avLst/>
          </a:prstGeom>
          <a:gradFill rotWithShape="0">
            <a:gsLst>
              <a:gs pos="0">
                <a:srgbClr val="ffc1c1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7380360" y="1482840"/>
            <a:ext cx="1439640" cy="1439640"/>
          </a:xfrm>
          <a:prstGeom prst="ellipse">
            <a:avLst/>
          </a:prstGeom>
          <a:gradFill rotWithShape="0">
            <a:gsLst>
              <a:gs pos="0">
                <a:srgbClr val="c5c5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589440" y="16272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3419640" y="220356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8"/>
          <p:cNvGrpSpPr/>
          <p:nvPr/>
        </p:nvGrpSpPr>
        <p:grpSpPr>
          <a:xfrm>
            <a:off x="468360" y="1484280"/>
            <a:ext cx="2592360" cy="1440000"/>
            <a:chOff x="468360" y="1484280"/>
            <a:chExt cx="2592360" cy="1440000"/>
          </a:xfrm>
        </p:grpSpPr>
        <p:sp>
          <p:nvSpPr>
            <p:cNvPr id="91" name="Oval 19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162072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468360" y="14842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>
                    <a:alpha val="4705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268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britannica"/>
          <p:cNvPicPr/>
          <p:nvPr/>
        </p:nvPicPr>
        <p:blipFill>
          <a:blip r:embed="rId1"/>
          <a:stretch/>
        </p:blipFill>
        <p:spPr>
          <a:xfrm>
            <a:off x="0" y="2565360"/>
            <a:ext cx="4067280" cy="2798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0" y="536724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thy McVeigh bombing, 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4E_demolition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314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7"/>
          <p:cNvSpPr/>
          <p:nvPr/>
        </p:nvSpPr>
        <p:spPr>
          <a:xfrm>
            <a:off x="4427640" y="56610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building demolition with ammonium nitrate explo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2682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energ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269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265"/>
          <p:cNvPicPr/>
          <p:nvPr/>
        </p:nvPicPr>
        <p:blipFill>
          <a:blip r:embed="rId1"/>
          <a:stretch/>
        </p:blipFill>
        <p:spPr>
          <a:xfrm>
            <a:off x="2700360" y="256536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Displacemen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763640" y="486900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C + 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5"/>
          <p:cNvGrpSpPr/>
          <p:nvPr/>
        </p:nvGrpSpPr>
        <p:grpSpPr>
          <a:xfrm>
            <a:off x="90360" y="2516040"/>
            <a:ext cx="8945640" cy="1200240"/>
            <a:chOff x="90360" y="2516040"/>
            <a:chExt cx="8945640" cy="1200240"/>
          </a:xfrm>
        </p:grpSpPr>
        <p:sp>
          <p:nvSpPr>
            <p:cNvPr id="106" name="Oval 3"/>
            <p:cNvSpPr/>
            <p:nvPr/>
          </p:nvSpPr>
          <p:spPr>
            <a:xfrm>
              <a:off x="90360" y="2548080"/>
              <a:ext cx="1168560" cy="1168200"/>
            </a:xfrm>
            <a:prstGeom prst="ellipse">
              <a:avLst/>
            </a:prstGeom>
            <a:gradFill rotWithShape="0">
              <a:gsLst>
                <a:gs pos="0">
                  <a:srgbClr val="ffc1c1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"/>
            <p:cNvSpPr/>
            <p:nvPr/>
          </p:nvSpPr>
          <p:spPr>
            <a:xfrm>
              <a:off x="1260360" y="2548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4068720" y="3124080"/>
              <a:ext cx="100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3"/>
            <p:cNvGrpSpPr/>
            <p:nvPr/>
          </p:nvGrpSpPr>
          <p:grpSpPr>
            <a:xfrm>
              <a:off x="1908000" y="2548080"/>
              <a:ext cx="2089080" cy="1168200"/>
              <a:chOff x="1908000" y="2548080"/>
              <a:chExt cx="2089080" cy="1168200"/>
            </a:xfrm>
          </p:grpSpPr>
          <p:sp>
            <p:nvSpPr>
              <p:cNvPr id="110" name="Oval 4"/>
              <p:cNvSpPr/>
              <p:nvPr/>
            </p:nvSpPr>
            <p:spPr>
              <a:xfrm>
                <a:off x="1908000" y="2548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2"/>
              <p:cNvSpPr/>
              <p:nvPr/>
            </p:nvSpPr>
            <p:spPr>
              <a:xfrm>
                <a:off x="2828880" y="25480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3"/>
              <p:cNvSpPr/>
              <p:nvPr/>
            </p:nvSpPr>
            <p:spPr>
              <a:xfrm>
                <a:off x="1908000" y="2548080"/>
                <a:ext cx="1168560" cy="1168200"/>
              </a:xfrm>
              <a:prstGeom prst="ellipse">
                <a:avLst/>
              </a:prstGeom>
              <a:gradFill rotWithShape="0">
                <a:gsLst>
                  <a:gs pos="0">
                    <a:srgbClr val="c5c5ff"/>
                  </a:gs>
                  <a:gs pos="100000">
                    <a:srgbClr val="6666ff">
                      <a:alpha val="51372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7"/>
            <p:cNvSpPr/>
            <p:nvPr/>
          </p:nvSpPr>
          <p:spPr>
            <a:xfrm>
              <a:off x="7237440" y="2548080"/>
              <a:ext cx="66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"/>
            <p:cNvSpPr/>
            <p:nvPr/>
          </p:nvSpPr>
          <p:spPr>
            <a:xfrm>
              <a:off x="7867800" y="2531880"/>
              <a:ext cx="1168200" cy="1168560"/>
            </a:xfrm>
            <a:prstGeom prst="ellipse">
              <a:avLst/>
            </a:prstGeom>
            <a:gradFill rotWithShape="0">
              <a:gsLst>
                <a:gs pos="0">
                  <a:srgbClr val="c5c5ff"/>
                </a:gs>
                <a:gs pos="100000">
                  <a:srgbClr val="66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24"/>
            <p:cNvGrpSpPr/>
            <p:nvPr/>
          </p:nvGrpSpPr>
          <p:grpSpPr>
            <a:xfrm>
              <a:off x="5148360" y="2516040"/>
              <a:ext cx="2136600" cy="1184040"/>
              <a:chOff x="5148360" y="2516040"/>
              <a:chExt cx="2136600" cy="1184040"/>
            </a:xfrm>
          </p:grpSpPr>
          <p:sp>
            <p:nvSpPr>
              <p:cNvPr id="116" name="Oval 16"/>
              <p:cNvSpPr/>
              <p:nvPr/>
            </p:nvSpPr>
            <p:spPr>
              <a:xfrm>
                <a:off x="5148360" y="2531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20"/>
              <p:cNvSpPr/>
              <p:nvPr/>
            </p:nvSpPr>
            <p:spPr>
              <a:xfrm>
                <a:off x="6116760" y="253188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e0f9dd"/>
                  </a:gs>
                  <a:gs pos="100000">
                    <a:srgbClr val="87e97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22"/>
              <p:cNvSpPr/>
              <p:nvPr/>
            </p:nvSpPr>
            <p:spPr>
              <a:xfrm>
                <a:off x="5164200" y="2516040"/>
                <a:ext cx="1168200" cy="1168200"/>
              </a:xfrm>
              <a:prstGeom prst="ellipse">
                <a:avLst/>
              </a:prstGeom>
              <a:gradFill rotWithShape="0">
                <a:gsLst>
                  <a:gs pos="0">
                    <a:srgbClr val="ffc1c1"/>
                  </a:gs>
                  <a:gs pos="100000">
                    <a:srgbClr val="ff0000">
                      <a:alpha val="55294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2:20:58Z</dcterms:created>
  <dc:creator>Alan</dc:creator>
  <dc:description/>
  <dc:language>en-US</dc:language>
  <cp:lastModifiedBy>rubina khan</cp:lastModifiedBy>
  <dcterms:modified xsi:type="dcterms:W3CDTF">2017-09-22T15:06:14Z</dcterms:modified>
  <cp:revision>68</cp:revision>
  <dc:subject/>
  <dc:title>Types of Chemical Reactions</dc:title>
</cp:coreProperties>
</file>